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39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7.png" ContentType="image/png"/>
  <Override PartName="/ppt/media/image40.wmf" ContentType="image/x-wmf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22A-C84B-4CB0-A4BD-1BBB166D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5E9-FF5C-4ED4-B5F4-9E771440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002-37CA-4F2F-9FA4-F220288F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3BD-4C33-4204-BA2F-D2D3A124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12E-7E67-4D92-9EF6-0DB7D716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6FA-F72E-4D2F-A501-8AB4AB1D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AAE-CBD1-4EE8-BE78-8BFADD5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2F2-207A-4E29-821D-A4450DF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CFC-F4A7-4041-932C-D5B9B03C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0BB-AAAD-40D8-9C72-5877111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466-BAA7-459C-BCA5-36A71BC7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6C0-2BAF-43C3-987E-9FB5265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F7D-8680-4B69-99A0-48A9182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582-EA9E-4E4A-9980-100DEAC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E0C-7601-45D2-9EA8-73DBE6C3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9FCE-CF85-41CE-B42C-1275E0AC9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owebportal.org/" TargetMode="External"/><Relationship Id="rId2" Type="http://schemas.openxmlformats.org/officeDocument/2006/relationships/hyperlink" Target="http://www.geoportal.org/" TargetMode="External"/><Relationship Id="rId3" Type="http://schemas.openxmlformats.org/officeDocument/2006/relationships/hyperlink" Target="http://keel.esri.com/Porta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ieee-earth.org/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wmf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jpeg"/><Relationship Id="rId21" Type="http://schemas.openxmlformats.org/officeDocument/2006/relationships/image" Target="../media/image29.png"/><Relationship Id="rId22" Type="http://schemas.openxmlformats.org/officeDocument/2006/relationships/image" Target="../media/image30.jpeg"/><Relationship Id="rId23" Type="http://schemas.openxmlformats.org/officeDocument/2006/relationships/image" Target="../media/image31.jpeg"/><Relationship Id="rId24" Type="http://schemas.openxmlformats.org/officeDocument/2006/relationships/image" Target="../media/image32.jpeg"/><Relationship Id="rId25" Type="http://schemas.openxmlformats.org/officeDocument/2006/relationships/image" Target="../media/image33.jpeg"/><Relationship Id="rId26" Type="http://schemas.openxmlformats.org/officeDocument/2006/relationships/image" Target="../media/image34.png"/><Relationship Id="rId2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33.jpeg"/><Relationship Id="rId9" Type="http://schemas.openxmlformats.org/officeDocument/2006/relationships/image" Target="../media/image10.jpe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gcnetwork.net/AIPdemos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gcnetwork.net/AIpilot" TargetMode="External"/><Relationship Id="rId2" Type="http://schemas.openxmlformats.org/officeDocument/2006/relationships/hyperlink" Target="http://www.ogcnetwork.net/AIPdemos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sted by the European 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Joint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81900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perating Capability (IOC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4 Components &amp; 75 Services registered (21 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Decision Support Clients (13) for User access t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organizations capable of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Clearinghous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Web Portal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2440" y="176508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organizations are capable of providing workable 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webportal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A-FAO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oporta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RI: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eel.esri.com/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visibly similar &amp; meeting basic requirements, the three offer different feature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e Town Declaration: “We commit to explore ways and means for the sustained operations of the shared architectural GEOSS components and related information infrastruc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- Further Developmen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llaboration with GEO Committees, Communities of Practice and relevant GEO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itment to Operational requirements to support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, Clearinghous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ensor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, acquire and process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alibration scenario, e.g., 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for observation processing and decision support, e.g., Fed Earth Observation (FedEO)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-07-02 Task Defini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Sheet slightly revised at ADC-5,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mplementation Pilot emphasis retained: Portals, Clearinghouse, Catalogues,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sensors interoperabil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tem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Infrastructure for Servi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User and Architecture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4&amp;5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located at JRC Ispra with ADC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Consensus building in support of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candidates: interactions with UIC &amp; CoP 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refinement of the CFP-2007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ed operations for informatio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lementation Report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9880" y="213336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UIC/ADC Collaboration</a:t>
            </a:r>
            <a:r>
              <a:rPr b="1" lang="en-US" sz="4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worth Le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UIC Co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4720" y="19555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User &amp; Architecture Workshop Series -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Summary of Proceedings</a:t>
            </a:r>
            <a:br>
              <a:rPr sz="3600"/>
            </a:br>
            <a:r>
              <a:rPr b="1" lang="en-US" sz="1000" spc="-1" strike="noStrike">
                <a:solidFill>
                  <a:srgbClr val="005faa"/>
                </a:solidFill>
                <a:latin typeface="Arial"/>
              </a:rPr>
              <a:t>http://www.ieee-earth.org/default.taf?menu=conferences&amp;feature=geossworkshops&amp;title=GEOSS%20Workshops</a:t>
            </a:r>
            <a:endParaRPr b="1" lang="en-US" sz="1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oise Pear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IEEE"/>
          <p:cNvPicPr/>
          <p:nvPr/>
        </p:nvPicPr>
        <p:blipFill>
          <a:blip r:embed="rId2"/>
          <a:stretch/>
        </p:blipFill>
        <p:spPr>
          <a:xfrm>
            <a:off x="438120" y="5695920"/>
            <a:ext cx="14605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4240" y="482400"/>
            <a:ext cx="802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User &amp; Architecture Workshop Seri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33360" y="1281240"/>
            <a:ext cx="5675400" cy="4944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66480" y="6288120"/>
            <a:ext cx="587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roceedings go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eee-earth.or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select co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360" y="733320"/>
            <a:ext cx="779148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and Societal Benefit Areas Addressed in 15 Workshop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93720" y="2114640"/>
            <a:ext cx="8181720" cy="4616280"/>
            <a:chOff x="693720" y="2114640"/>
            <a:chExt cx="8181720" cy="4616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303200" y="2863800"/>
              <a:ext cx="6859800" cy="32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346520" y="6176880"/>
              <a:ext cx="1180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berr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4200" y="6192720"/>
              <a:ext cx="1581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shwan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 &amp; 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9120" y="2811600"/>
              <a:ext cx="9730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jing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00760" y="2125800"/>
              <a:ext cx="9259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oul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4960" y="2133720"/>
              <a:ext cx="13406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knif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te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360" y="2114640"/>
              <a:ext cx="10126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nver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360" y="2676600"/>
              <a:ext cx="10522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ulder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83240" y="2133720"/>
              <a:ext cx="11455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t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2040" y="2125800"/>
              <a:ext cx="133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rcelon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S interop.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920" y="5997600"/>
              <a:ext cx="131148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n J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sta Rica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7160" y="6192720"/>
              <a:ext cx="1567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agodougou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&amp;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4960" y="2125800"/>
              <a:ext cx="82548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a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1720" y="3238560"/>
              <a:ext cx="1270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n Diego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720" y="5219640"/>
              <a:ext cx="15188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nolulu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S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8440" y="5608800"/>
              <a:ext cx="1557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uala-Lumpur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a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085760" y="1952640"/>
            <a:ext cx="7524720" cy="4753080"/>
            <a:chOff x="1085760" y="1952640"/>
            <a:chExt cx="7524720" cy="4753080"/>
          </a:xfrm>
        </p:grpSpPr>
        <p:pic>
          <p:nvPicPr>
            <p:cNvPr id="186" name="" descr="OGC"/>
            <p:cNvPicPr/>
            <p:nvPr/>
          </p:nvPicPr>
          <p:blipFill>
            <a:blip r:embed="rId1"/>
            <a:stretch/>
          </p:blipFill>
          <p:spPr>
            <a:xfrm>
              <a:off x="3905280" y="2861280"/>
              <a:ext cx="786600" cy="3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478880" y="2092320"/>
              <a:ext cx="1180080" cy="4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7511760" y="1952640"/>
              <a:ext cx="655560" cy="67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GEO"/>
            <p:cNvPicPr/>
            <p:nvPr/>
          </p:nvPicPr>
          <p:blipFill>
            <a:blip r:embed="rId4"/>
            <a:stretch/>
          </p:blipFill>
          <p:spPr>
            <a:xfrm>
              <a:off x="3905280" y="2162160"/>
              <a:ext cx="75384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ISPRS"/>
            <p:cNvPicPr/>
            <p:nvPr/>
          </p:nvPicPr>
          <p:blipFill>
            <a:blip r:embed="rId5"/>
            <a:stretch/>
          </p:blipFill>
          <p:spPr>
            <a:xfrm>
              <a:off x="4823280" y="2651400"/>
              <a:ext cx="78660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7708680" y="4748760"/>
              <a:ext cx="4917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7577640" y="3420360"/>
              <a:ext cx="5900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7315200" y="4119480"/>
              <a:ext cx="1295280" cy="4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9"/>
            <a:stretch/>
          </p:blipFill>
          <p:spPr>
            <a:xfrm>
              <a:off x="4626720" y="5866920"/>
              <a:ext cx="10162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0"/>
            <a:srcRect l="25508" t="0" r="18107" b="0"/>
            <a:stretch/>
          </p:blipFill>
          <p:spPr>
            <a:xfrm>
              <a:off x="3970800" y="3280680"/>
              <a:ext cx="6721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1"/>
            <a:stretch/>
          </p:blipFill>
          <p:spPr>
            <a:xfrm>
              <a:off x="3839760" y="5028120"/>
              <a:ext cx="8085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CMA"/>
            <p:cNvPicPr/>
            <p:nvPr/>
          </p:nvPicPr>
          <p:blipFill>
            <a:blip r:embed="rId12"/>
            <a:stretch/>
          </p:blipFill>
          <p:spPr>
            <a:xfrm>
              <a:off x="7643160" y="6006960"/>
              <a:ext cx="6552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3"/>
            <a:stretch/>
          </p:blipFill>
          <p:spPr>
            <a:xfrm>
              <a:off x="1741320" y="3280680"/>
              <a:ext cx="786600" cy="5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"/>
            <a:stretch/>
          </p:blipFill>
          <p:spPr>
            <a:xfrm>
              <a:off x="1806840" y="3909600"/>
              <a:ext cx="655560" cy="6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5"/>
            <a:stretch/>
          </p:blipFill>
          <p:spPr>
            <a:xfrm>
              <a:off x="4823280" y="3420360"/>
              <a:ext cx="721080" cy="6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7" descr="MSU Wordmark High Res"/>
            <p:cNvPicPr/>
            <p:nvPr/>
          </p:nvPicPr>
          <p:blipFill>
            <a:blip r:embed="rId16"/>
            <a:stretch/>
          </p:blipFill>
          <p:spPr>
            <a:xfrm>
              <a:off x="3708720" y="4398840"/>
              <a:ext cx="1081800" cy="3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7"/>
            <a:stretch/>
          </p:blipFill>
          <p:spPr>
            <a:xfrm>
              <a:off x="1741320" y="4608720"/>
              <a:ext cx="78660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8"/>
            <a:stretch/>
          </p:blipFill>
          <p:spPr>
            <a:xfrm>
              <a:off x="1085760" y="5936760"/>
              <a:ext cx="2098080" cy="5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9"/>
            <a:stretch/>
          </p:blipFill>
          <p:spPr>
            <a:xfrm>
              <a:off x="7577640" y="5373000"/>
              <a:ext cx="7210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0"/>
            <a:stretch/>
          </p:blipFill>
          <p:spPr>
            <a:xfrm>
              <a:off x="4889160" y="4298400"/>
              <a:ext cx="721080" cy="6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IEEE COMSOC"/>
            <p:cNvPicPr/>
            <p:nvPr/>
          </p:nvPicPr>
          <p:blipFill>
            <a:blip r:embed="rId21"/>
            <a:stretch/>
          </p:blipFill>
          <p:spPr>
            <a:xfrm>
              <a:off x="1216800" y="5447520"/>
              <a:ext cx="203256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2"/>
            <a:stretch/>
          </p:blipFill>
          <p:spPr>
            <a:xfrm>
              <a:off x="7511760" y="2581560"/>
              <a:ext cx="72144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3"/>
            <a:stretch/>
          </p:blipFill>
          <p:spPr>
            <a:xfrm>
              <a:off x="4954320" y="5097960"/>
              <a:ext cx="58860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4"/>
            <a:stretch/>
          </p:blipFill>
          <p:spPr>
            <a:xfrm>
              <a:off x="3773880" y="5797080"/>
              <a:ext cx="56844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5"/>
            <a:stretch/>
          </p:blipFill>
          <p:spPr>
            <a:xfrm>
              <a:off x="1741320" y="2651400"/>
              <a:ext cx="721080" cy="5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6"/>
            <a:stretch/>
          </p:blipFill>
          <p:spPr>
            <a:xfrm>
              <a:off x="4889160" y="2162160"/>
              <a:ext cx="75384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s supporting organiz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 Opening Plenary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765440"/>
          <a:ext cx="7772400" cy="4273560"/>
        </p:xfrm>
        <a:graphic>
          <a:graphicData uri="http://schemas.openxmlformats.org/drawingml/2006/table">
            <a:tbl>
              <a:tblPr/>
              <a:tblGrid>
                <a:gridCol w="1333440"/>
                <a:gridCol w="3378240"/>
                <a:gridCol w="306072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op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peak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Open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orge Perciv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0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elcome to EC/JR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llesandro Anno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ogistic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JR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cap of 2007 - IOC for GEOSS Core Architectur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ercivall, et. 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3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IC/ADC Collabo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lsworth LeDr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ser &amp; Architecture Workshop Ser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rancoise Pearlm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lan for Worksh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orge Perciv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4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journ Plen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86280" y="1019160"/>
            <a:ext cx="4038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typical Proceedings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includ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Fl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out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95640" y="5246640"/>
            <a:ext cx="182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5640" y="4702320"/>
            <a:ext cx="1825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95640" y="4002120"/>
            <a:ext cx="182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95640" y="3301920"/>
            <a:ext cx="182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95640" y="2602080"/>
            <a:ext cx="182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81680" y="1077840"/>
            <a:ext cx="3948120" cy="2787480"/>
            <a:chOff x="4981680" y="1077840"/>
            <a:chExt cx="3948120" cy="278748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5348160" y="1077840"/>
              <a:ext cx="776520" cy="7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GEO"/>
            <p:cNvPicPr/>
            <p:nvPr/>
          </p:nvPicPr>
          <p:blipFill>
            <a:blip r:embed="rId2"/>
            <a:stretch/>
          </p:blipFill>
          <p:spPr>
            <a:xfrm>
              <a:off x="6416640" y="1163880"/>
              <a:ext cx="125568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7817040" y="1114560"/>
              <a:ext cx="86652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5168880" y="1967040"/>
              <a:ext cx="350208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981680" y="1824120"/>
              <a:ext cx="39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IEEE GEOSS 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The User and the GEOSS Architecture XI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041800" y="3564000"/>
              <a:ext cx="3857400" cy="301320"/>
              <a:chOff x="5041800" y="3564000"/>
              <a:chExt cx="3857400" cy="301320"/>
            </a:xfrm>
          </p:grpSpPr>
          <p:pic>
            <p:nvPicPr>
              <p:cNvPr id="228" name="imag" descr="ISPRS"/>
              <p:cNvPicPr/>
              <p:nvPr/>
            </p:nvPicPr>
            <p:blipFill>
              <a:blip r:embed="rId5"/>
              <a:stretch/>
            </p:blipFill>
            <p:spPr>
              <a:xfrm>
                <a:off x="6525000" y="3613320"/>
                <a:ext cx="29088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OGC"/>
              <p:cNvPicPr/>
              <p:nvPr/>
            </p:nvPicPr>
            <p:blipFill>
              <a:blip r:embed="rId6"/>
              <a:stretch/>
            </p:blipFill>
            <p:spPr>
              <a:xfrm>
                <a:off x="7044840" y="3660840"/>
                <a:ext cx="511920" cy="19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IEEE"/>
              <p:cNvPicPr/>
              <p:nvPr/>
            </p:nvPicPr>
            <p:blipFill>
              <a:blip r:embed="rId7"/>
              <a:stretch/>
            </p:blipFill>
            <p:spPr>
              <a:xfrm>
                <a:off x="5041800" y="3620880"/>
                <a:ext cx="710280" cy="23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6760" y="3564000"/>
                <a:ext cx="452880" cy="29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02960" y="3616560"/>
                <a:ext cx="696240" cy="24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63680" y="3599280"/>
                <a:ext cx="504360" cy="26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4" name=""/>
            <p:cNvSpPr/>
            <p:nvPr/>
          </p:nvSpPr>
          <p:spPr>
            <a:xfrm>
              <a:off x="5423040" y="2590920"/>
              <a:ext cx="3484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Organized by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Changyong Cao  - NOAA/NESDIS, Washington D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Prof. Al Gasiewski – University of Colorado, Boulder, 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Siri Jodha Singh Khalsa – University of Colorado NSIDC, Boulder, 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Dr. Jay Pearlman – The Boeing Corpo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Mr. </a:t>
              </a:r>
              <a:r>
                <a:rPr b="0" lang="sv-SE" sz="900" spc="-1" strike="noStrike">
                  <a:solidFill>
                    <a:srgbClr val="008000"/>
                  </a:solidFill>
                  <a:latin typeface="Arial"/>
                  <a:ea typeface="SimSun"/>
                </a:rPr>
                <a:t>Ivan Petiteville – ESA</a:t>
              </a:r>
              <a:r>
                <a:rPr b="0" lang="sv-SE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3571920" y="4086360"/>
          <a:ext cx="5285880" cy="2485800"/>
        </p:xfrm>
        <a:graphic>
          <a:graphicData uri="http://schemas.openxmlformats.org/drawingml/2006/table">
            <a:tbl>
              <a:tblPr/>
              <a:tblGrid>
                <a:gridCol w="52858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SS Architecture &amp; Interoper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Perspective (Societal Benefit foc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-out S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 flipV="1">
            <a:off x="3000240" y="1467000"/>
            <a:ext cx="1838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14440" y="3029040"/>
            <a:ext cx="1762200" cy="95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60" y="4687920"/>
            <a:ext cx="2018520" cy="1159560"/>
          </a:xfrm>
          <a:prstGeom prst="rect">
            <a:avLst/>
          </a:prstGeom>
          <a:solidFill>
            <a:srgbClr val="ffffc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ed brief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record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on the IC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under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dio &amp; slide lect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800" y="3343320"/>
            <a:ext cx="19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440" y="3343320"/>
            <a:ext cx="0" cy="19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3080" y="528624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2320" y="5964120"/>
            <a:ext cx="2474280" cy="733320"/>
          </a:xfrm>
          <a:prstGeom prst="rect">
            <a:avLst/>
          </a:prstGeom>
          <a:solidFill>
            <a:srgbClr val="ffffc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s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video clips are up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OGC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User/Developer’s Perspectiv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is a u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are the needs and concerns for GEOSS from a user persp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are the most important information from GEOSS for user ap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f the architecture is developed over a number of years, what features should be developed e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features are missing that you would like to see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4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spectrum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(Top level Decision/policy makers, managers) in need of user friendl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more focused on source and qua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e different needs &amp; level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s versus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connectivity between the two and between models and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, interactive feedback from users &amp; ability to correc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interoperable cross-domai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onnection between modeling and observation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mphasis on Dat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1856880"/>
            <a:ext cx="812484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y data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, accessibility, distribution, visualization/layering,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ocumentation – especially when cutting across benefi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quently mentioned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(from real time to paleo-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/authentication (access to proprietary data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(Trusted source; Quality Assurance and Control; Data line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ty of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istribu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vs mobile access (including ad-hoc networ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Breakout Sessions – Summary Findings III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0294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S Architecture key desired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simple, seaml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high availability, reliability, security,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technology evolution &amp; new technology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oughts on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onnecting systems within a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are abstracted in “wrappers” developed cooperatively by Providers &amp;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ontology in Interoperability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little, test a little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monstrations, prototypes and  pilots are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emos and Pilo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6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the 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egistration and discove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he architecture to eight societal benefi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port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 videos of the demonstrations are available on-lin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191280" y="1162080"/>
            <a:ext cx="2811600" cy="2092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186960" y="328788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 team in Yellowknife,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 look forward- Workshops for 2008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3200" y="2863800"/>
            <a:ext cx="6859800" cy="3282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23520" y="6192720"/>
            <a:ext cx="2536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a, Ghana -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Security &amp; 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56320" y="2744640"/>
            <a:ext cx="1555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, Chin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42560" y="2125800"/>
            <a:ext cx="149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be, Japa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ans &amp;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26600" y="2114640"/>
            <a:ext cx="17870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bec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Modeling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240" y="2133720"/>
            <a:ext cx="17762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Canad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C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8360" y="2962440"/>
            <a:ext cx="1791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ston, USA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Quality &amp; coa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77680" y="2125800"/>
            <a:ext cx="113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in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8080" y="5791320"/>
            <a:ext cx="2213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nolulu, Hawaii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isast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4680" y="2196720"/>
            <a:ext cx="66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Plan for the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rchitecture Workshop 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Workshop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meeting to develop requirements for GEOSS Architecture develop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will become part of a Call for Participation in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identified through collaboration of the GEO UIC and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-specific GEO Tasks can utilize AIP (AR-07-02) to utilize the GEOSS Core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Monday’s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84280" y="1725480"/>
          <a:ext cx="8115120" cy="4586040"/>
        </p:xfrm>
        <a:graphic>
          <a:graphicData uri="http://schemas.openxmlformats.org/drawingml/2006/table">
            <a:tbl>
              <a:tblPr/>
              <a:tblGrid>
                <a:gridCol w="1458720"/>
                <a:gridCol w="2262240"/>
                <a:gridCol w="2365560"/>
                <a:gridCol w="20286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(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 Ple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 (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 (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 &amp; Health 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John White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b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calibration 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ephen Ungar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1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Operating Cap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Nebert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88688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Recap of 2007 - </a:t>
            </a:r>
            <a:br>
              <a:rPr sz="36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Initial Operating Capability for the GEOSS Core Architecture</a:t>
            </a: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Percivall,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Tuesday Morning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84280" y="1725480"/>
          <a:ext cx="8115120" cy="4862520"/>
        </p:xfrm>
        <a:graphic>
          <a:graphicData uri="http://schemas.openxmlformats.org/drawingml/2006/table">
            <a:tbl>
              <a:tblPr/>
              <a:tblGrid>
                <a:gridCol w="1218960"/>
                <a:gridCol w="2400480"/>
                <a:gridCol w="2133720"/>
                <a:gridCol w="2361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diversity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Muc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IP3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- Solar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onel Me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2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inghous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ues, Regis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oug Neb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ster Response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y Sé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s Interoper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Ingo Simon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3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Facility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ul S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 - Tuesday Afternoon Agenda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84280" y="1725480"/>
          <a:ext cx="8115120" cy="4265640"/>
        </p:xfrm>
        <a:graphic>
          <a:graphicData uri="http://schemas.openxmlformats.org/drawingml/2006/table">
            <a:tbl>
              <a:tblPr/>
              <a:tblGrid>
                <a:gridCol w="1218960"/>
                <a:gridCol w="1981440"/>
                <a:gridCol w="2247840"/>
                <a:gridCol w="26668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/Drought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avid Arctur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ier Giorgio Marchetti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4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Portals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go Simonis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eshment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Ple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8532720" y="365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osition Pape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olicy white paper for GEOSS -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ata centre STFC - Energ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 ADC IP3 Proposed Activities 2008 - Biodiversit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s for risk management - Natural Disaster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A-FAO GeoPortal position paper - User Interface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: A Global SDI Framework - Clearinghouse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in a Distributed Digital Library of Geospatial Services -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CV's Data Quality Framework  - Inter-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pace-based Inter-Calibration System (GSICS) - Inter-calibration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C Sensor Web Enablement Standards  -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Things to consider in all sess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Architecture Workshop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licy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ordinating Task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11120" y="1863720"/>
          <a:ext cx="8373960" cy="44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63720"/>
                    <a:ext cx="837396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34680" y="2196720"/>
            <a:ext cx="66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800"/>
            </a:b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rchitecture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ncorporation of contributed components consistent with the GEOSS Archit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GEO Web Portal and a GEOSS Clearinghouse search fac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services through GEOSS Interoperability Arra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pport of GEOSS Societal Benefi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SS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mplementation Repor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Operating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ing viewpoint: Componen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 Interoperabilit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y System and Clearing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 Candidate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search vs. harvest trad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 Definition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Portal candidate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Registri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273320" y="1558800"/>
          <a:ext cx="6368760" cy="46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3320" y="1558800"/>
                    <a:ext cx="636876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300320" y="2463840"/>
            <a:ext cx="1003320" cy="652320"/>
          </a:xfrm>
          <a:custGeom>
            <a:avLst/>
            <a:gdLst>
              <a:gd name="textAreaLeft" fmla="*/ 0 w 1003320"/>
              <a:gd name="textAreaRight" fmla="*/ 1003320 w 10033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86200" y="3301200"/>
            <a:ext cx="1003320" cy="652680"/>
          </a:xfrm>
          <a:custGeom>
            <a:avLst/>
            <a:gdLst>
              <a:gd name="textAreaLeft" fmla="*/ 0 w 1003320"/>
              <a:gd name="textAreaRight" fmla="*/ 1003320 w 100332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140360"/>
            <a:ext cx="762120" cy="652320"/>
          </a:xfrm>
          <a:custGeom>
            <a:avLst/>
            <a:gdLst>
              <a:gd name="textAreaLeft" fmla="*/ 0 w 762120"/>
              <a:gd name="textAreaRight" fmla="*/ 762480 w 76212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035760" y="5180760"/>
            <a:ext cx="1066680" cy="6526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84800" y="461232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89480" y="4258800"/>
            <a:ext cx="17082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017960" y="3174480"/>
            <a:ext cx="1471680" cy="988200"/>
            <a:chOff x="4017960" y="3174480"/>
            <a:chExt cx="1471680" cy="988200"/>
          </a:xfrm>
        </p:grpSpPr>
        <p:sp>
          <p:nvSpPr>
            <p:cNvPr id="300" name=""/>
            <p:cNvSpPr/>
            <p:nvPr/>
          </p:nvSpPr>
          <p:spPr>
            <a:xfrm>
              <a:off x="4017960" y="3520080"/>
              <a:ext cx="147168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ick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1200" y="3174480"/>
              <a:ext cx="146844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366640" y="2731320"/>
            <a:ext cx="1566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33520" y="2387160"/>
            <a:ext cx="160344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9720" y="1553760"/>
            <a:ext cx="1641240" cy="983520"/>
            <a:chOff x="639720" y="1553760"/>
            <a:chExt cx="1641240" cy="983520"/>
          </a:xfrm>
        </p:grpSpPr>
        <p:sp>
          <p:nvSpPr>
            <p:cNvPr id="305" name=""/>
            <p:cNvSpPr/>
            <p:nvPr/>
          </p:nvSpPr>
          <p:spPr>
            <a:xfrm>
              <a:off x="639720" y="1894680"/>
              <a:ext cx="1636560" cy="642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2960" y="1553760"/>
              <a:ext cx="1638000" cy="337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Ph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078680" y="5475960"/>
            <a:ext cx="1520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5160" y="5142960"/>
            <a:ext cx="1514160" cy="337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has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re Architectur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itial Operating Capability (IOC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, Clearinghouse, and Regi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register, discover and us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2007, GEO ADC guided development of IOC through its core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1 - Enabling Deployment of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-07-02 - Architecture Implementation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emonstrated at EO Summit and GEO-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SBA Scenario Demonstration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&amp; Clearinghous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Compu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ESA/F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Web Portal - ES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land Fire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s &amp; Biodiversity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s &amp; Biodiversity in Pola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Oil S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Hurric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I Pilot Screencas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0" r="5036" b="0"/>
          <a:stretch/>
        </p:blipFill>
        <p:spPr>
          <a:xfrm>
            <a:off x="244440" y="0"/>
            <a:ext cx="8558280" cy="683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345760" y="481644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ogcnetwork.net/AIP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Screencast Participan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0920" y="1802880"/>
            <a:ext cx="2841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ewe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DS As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/J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D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itat Valenc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5080" y="1803240"/>
            <a:ext cx="3176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aka/52n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I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91240" y="1790640"/>
            <a:ext cx="284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Geo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ienza Consul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BA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h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412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10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15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06" idx="0"/>
            <a:endCxn id="100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"/>
          <p:cNvCxnSpPr>
            <a:stCxn id="106" idx="6"/>
            <a:endCxn id="117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5" name=""/>
          <p:cNvCxnSpPr>
            <a:stCxn id="106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6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03" idx="3"/>
            <a:endCxn id="117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AI Pilot 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Milestones -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666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Participation (C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Preparation based on RF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&amp;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P Responses 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5&amp;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at ESA-ES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, Integrate, Test 4 m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to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Capture Worksh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0&amp;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Architecture Implementation Re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67652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GEO Task AR-07-02</a:t>
            </a:r>
            <a:br>
              <a:rPr sz="2400"/>
            </a:br>
            <a:r>
              <a:rPr b="1" lang="en-GB" sz="2400" spc="-1" strike="noStrike">
                <a:solidFill>
                  <a:srgbClr val="005faa"/>
                </a:solidFill>
                <a:latin typeface="Arial"/>
              </a:rPr>
              <a:t>GEO Architecture </a:t>
            </a: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mplementation Pilot - 2007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9216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effective development proc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, Kickoff, Execu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20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effective communication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ternational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gcnetwork.net/AI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 Screencasts of Initial Operating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gcnetwork.net/AIPdem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“Core Architecture Implementation Rep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validated through ADC cor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loyed, tested and demonstrat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nent types and interactions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 for Interoperability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t with GEOSS Strategic Guidance Document and Tactical Guidan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587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GEOSS Engineering Architecture</a:t>
            </a:r>
            <a:endParaRPr b="1" lang="en-US" sz="24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719" t="3149" r="0" b="2429"/>
          <a:stretch/>
        </p:blipFill>
        <p:spPr>
          <a:xfrm>
            <a:off x="990720" y="1219320"/>
            <a:ext cx="7238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03T18:04:04Z</dcterms:modified>
  <cp:revision>240</cp:revision>
  <dc:subject/>
  <dc:title>Update on OGC involvement in GEOSS</dc:title>
</cp:coreProperties>
</file>